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3F0-C2C8-4BC7-BE7F-F0FE490E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373-54EF-4EF6-A1F2-7B38AD2E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372-D80D-4609-9CA1-4C0DE21B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E7E-80C2-49E7-B79A-90E55E5C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4952-4BEE-4227-A839-7DCB1303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F3FC-8A29-48B1-AA36-191A10C1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C2AC-6D0C-4D49-93CD-7C5FA36F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F479-AD23-4FAB-A429-7788C1BA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2C7E-EAAD-4ECD-9AB1-6B3AC062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0E0-EB4F-4102-BE7D-0794325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374-9B6B-42D0-9F3A-77D3D16F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E0B-8662-4DE1-A1DB-33391064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09B-15B9-4FD7-A1FF-86EAC849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58C-25FE-40C0-809C-D8C913EA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8803-CB6D-458B-BF1B-46CE9FA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C3AC-C65C-4336-9AC0-FD380E19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8DA2-1E91-4B3A-A99A-1D93E0C4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4E2-A490-40AE-B711-A2BFC852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B76-B899-467C-8EBD-F72E9508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449-7376-45C7-8BEF-58FF5D90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1560-9FF6-48C2-B8B4-6546E32F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CA1-E3B1-4DE7-924F-4E8C05EF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2B7-3CC6-4CF3-ACDD-CA267CB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148-FDF9-40CE-8E06-E2A92E9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A725-9D4C-4B48-AD27-C8D954700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045-4AAF-4691-B4BC-7F573054A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ersonal Finan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oduction and Financial 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Personal Financ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Finance deals with everything in your life that involves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has at least some experience with money. This includes everyone sitting in this classroo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to ask ourselves why so many people have money proble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work this Semester/Quarter to provide you with information that will help you make wise financial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Financial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40% of Americans spend more money than they 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verage savings rate in the United States is 2.8%. (Excludes money that is invested in retirement account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half of all working age Americans have less than $10,000 saved for retir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6% of all Americans will be financially dependent on the government, family, or charity at retir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2% of homes in the United States are completely paid for and do not have a mortg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American carries a balance of $8,400 in credit card debt. (If a person paid 2% of this balance per month, at an APR of 15%, it would take over 30 years to pay off the bal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5% of all bankruptcies are from people under the age of 35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essee leads the nation in personal bankruptcy fil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een Money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a recent survey conducted by the financial firm Charles Schwa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5% of teens stated that they could use credit card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6% of teens understood credit card interest and f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felt that they could create their own bud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ntinu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% claimed to have some idea about how to invest mo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% of American teens have credit card deb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6% of teens stated that they were concerned about their parents/guardians financial well be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613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33% of teens could read a bank statement, balance a checkbook, and pay bills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299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News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tistics that we just discussed are bleak. However, the good news is that YOU have control over your financial future and time is definitely on your side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ncial habits that you learn now will have a profound impact upon your financial fut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ancial decisions you make will determine whether you will have control over your finances or your finances will control you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9:41:10Z</dcterms:created>
  <dc:creator>Sys Admin</dc:creator>
  <dc:description/>
  <dc:language>en-US</dc:language>
  <cp:lastModifiedBy>SysAdmin</cp:lastModifiedBy>
  <dcterms:modified xsi:type="dcterms:W3CDTF">2011-10-31T12:00:15Z</dcterms:modified>
  <cp:revision>44</cp:revision>
  <dc:subject/>
  <dc:title>Personal Finance</dc:title>
</cp:coreProperties>
</file>